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95EB2-5948-454B-AEB1-F50FA9ABE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E1F31-CE6C-4934-BDA6-EEDDF8CBD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D66D7-DDC4-4E49-A7EC-E542A7139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0C333-A5C8-4ABA-B16C-5D98881EF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2F6EA-3E20-4E33-BCF9-C4CF464F7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71A8A-4861-40FC-B270-55DAE9B11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11EEA-34CB-4390-856B-275A71643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39CF9-114A-4CF3-9274-091A620E1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A177D-4B19-4A6E-9F2D-213F7B9F2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F1504-5AC5-4EBF-93B1-F05AF41C3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CC84C-0878-4DCE-A1E0-40611545D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14FD2-AC0F-4D8E-9C8B-8749A528D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25B2E-7679-4C0B-8AC7-3663DF627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1E047-28AE-420F-ACA6-E05A8AD69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81378-32B8-4C9D-A38D-DE3778009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D406C-9A1B-482D-9B58-9DB6030F7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DF11C-858A-4E9C-A382-BB986AE6E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EF223-3402-4F0D-A9B1-CA3F50167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E8212-D778-4FAB-85DE-0F4DEF74A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3B43F-6A96-4E62-B15D-920CA5266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168FF-20DD-4671-9822-7A368E2D1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D25DE-D650-474A-BBC7-3F3FA54E4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6C249-D051-4ACD-BB22-B2D653777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60EE4-2452-4D41-B110-087979AA6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BB6BA-8F71-4312-90AB-86747573F9B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1924F-879C-47C2-A7D1-02DCB6A1672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Data Communications Interfac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itional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2330"/>
          <a:stretch/>
        </p:blipFill>
        <p:spPr>
          <a:xfrm>
            <a:off x="2209680" y="1371600"/>
            <a:ext cx="4781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fac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processing devices (or data terminal equipment, DTE) do not (usually) include data transmission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an interface called data circuit terminating equipment (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odem, N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transmits bit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communicates data and control info with D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over interchange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ear interface standard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 of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plug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age, timing,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, control, timing, groun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ev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.24/EIA-232-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v.2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specifies functional and 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s other standards for electrical and mechan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A-232-F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S-23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chanical ISO 2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al v.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dur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990720" y="1373040"/>
            <a:ext cx="701028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interpreted as data or control, depending on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-3v is binary 1, more than +3v is binary 0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ate &lt; 20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&lt;1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control, more than-3v is off, +3v is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See table in Stallings chapter 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nd Remote Loop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762120" y="1376280"/>
            <a:ext cx="7391160" cy="52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cedur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synchronous private line mod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urned on and ready, modem (DCE) asserts DCE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TE ready to send data, it asserts Request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inhibits receive mode in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m responds when ready by asserting Clear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send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ata arrives, local modem asserts Receive Line Signal Detector and deliver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67733"/>
          <a:stretch/>
        </p:blipFill>
        <p:spPr>
          <a:xfrm>
            <a:off x="457200" y="1536840"/>
            <a:ext cx="815328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and Synchronou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problems require a mechanism to synchronize the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olu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31162" r="0" b="36707"/>
          <a:stretch/>
        </p:blipFill>
        <p:spPr>
          <a:xfrm>
            <a:off x="457200" y="1515960"/>
            <a:ext cx="8153280" cy="34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rcRect l="0" t="62194" r="0" b="5681"/>
          <a:stretch/>
        </p:blipFill>
        <p:spPr>
          <a:xfrm>
            <a:off x="380880" y="1523880"/>
            <a:ext cx="822960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ull Mod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6158"/>
          <a:stretch/>
        </p:blipFill>
        <p:spPr>
          <a:xfrm>
            <a:off x="1612800" y="1371600"/>
            <a:ext cx="5092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ISDN Physical Interface Diagram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0885"/>
          <a:stretch/>
        </p:blipFill>
        <p:spPr>
          <a:xfrm>
            <a:off x="2143080" y="1400040"/>
            <a:ext cx="485784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Physical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etween terminal equipment (c.f. DTE) and network terminating equipment (c.f. 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887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bles terminate in matching connectors with 8 conta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/receive carry both data and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d on two lines, e.g.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as currents down one conductor and up the 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ia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depends on direction of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lerates more noise and generates 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Unbalanced, e.g. RS-232 uses single signal line and groun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oding depends o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rate 192kbps uses pseudoternar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ate uses alternative mark inversion (AMI) and B8ZS or 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egroun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from ITU-T on v.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o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on character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 to 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only needs maintaining within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ync with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9630"/>
          <a:stretch/>
        </p:blipFill>
        <p:spPr>
          <a:xfrm>
            <a:off x="1752480" y="1414440"/>
            <a:ext cx="594360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- Behavio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 steady stream, interval between characters is uniform (length of stop ele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idle state, receiver looks for transition 1 to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samples next seven intervals (char length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looks for next 1 to 0 for next ch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 of 2 or 3 bits per char (~2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for data with large gaps (keyboar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it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of data transmitted without start or stop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must be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separate clock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over short distan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ject to impair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mbed clock signal i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r frequency (analo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lock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indicate start and end of blo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reamble and posta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eries of SYN (hex 16) charac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lock of 11111111 patterns ending in 1111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(lower overhead) than a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58141"/>
          <a:stretch/>
        </p:blipFill>
        <p:spPr>
          <a:xfrm>
            <a:off x="457200" y="3124080"/>
            <a:ext cx="8229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e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arrangement of stations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uter and terminals, local area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may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one data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ultaneous transmission and reception between two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two data paths (or echo cancel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1T10:38:40Z</dcterms:created>
  <dc:creator>Adrian J Pullin</dc:creator>
  <dc:description/>
  <dc:language>en-US</dc:language>
  <cp:lastModifiedBy>Adrian J Pullin</cp:lastModifiedBy>
  <dcterms:modified xsi:type="dcterms:W3CDTF">1999-10-13T14:41:32Z</dcterms:modified>
  <cp:revision>18</cp:revision>
  <dc:subject/>
  <dc:title>William Stallings Data and Computer Communications </dc:title>
</cp:coreProperties>
</file>